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3D35-71DA-4A04-A646-7922D7BBC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66A3-3052-4BB0-9BF9-EB7174DB5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A451-A782-4497-8E5A-9E5E2CAF2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13EB-54C9-401B-BC93-8EDFDE358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C6AB-B44B-4988-89A8-C537983C8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C85B-C118-41AC-ACA1-2CC7B8FCC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B345-2A47-46C8-9414-D4C176B91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FC5C-FA97-470C-8D6B-A71470DFD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FE5B-E121-4D9A-9A10-F254CCEF5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9CBC-9811-4E27-8EBE-7A3AFB1F0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5C1E-9BFE-4D1A-8772-8D0C3CCAD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E8A2-4670-43EF-9FB0-E8A8F8FB7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CC7B5-DF3A-4234-AD78-A42E47BB0D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hyperlink" Target="http://bensguide.gpo.gov/3-5/state/michigan.html" TargetMode="External"/><Relationship Id="rId4" Type="http://schemas.openxmlformats.org/officeDocument/2006/relationships/hyperlink" Target="http://bensguide.gpo.gov/3-5/state/michigan.html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postcardsfrom.com/t1/980608.html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hyperlink" Target="http://www.postcardsfrom.com/stamp/stamp-mi.html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324480" y="4343400"/>
            <a:ext cx="28195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dis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esday, March 01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914400" y="609480"/>
            <a:ext cx="6858000" cy="358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66ff"/>
                  </a:solidFill>
                  <a:miter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9933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Michigan</a:t>
            </a:r>
            <a:endParaRPr b="0" lang="en-US" sz="1800" spc="1" strike="noStrike">
              <a:ln w="9360">
                <a:solidFill>
                  <a:srgbClr val="3366ff"/>
                </a:solidFill>
                <a:miter/>
              </a:ln>
              <a:gradFill rotWithShape="0">
                <a:gsLst>
                  <a:gs pos="0">
                    <a:srgbClr val="ff00ff"/>
                  </a:gs>
                  <a:gs pos="100000">
                    <a:srgbClr val="9933ff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648320" y="365760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533520" y="30456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Capital: Lan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Population: 9,938,44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Entered the Union: January 2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Kristen ITC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, 18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Number Entered: 2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Kristen ITC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Motto: If you seek a pleasant Peninsula, look about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Nickname: The Wolverine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Flower: Apple Bloss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Bird: Rob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Song: Michigan, My Michig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Meaning behind name: Used to be a Indian Tribe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19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   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Interesting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State Tree: The White P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Michigan is one of the most populous states in the U.S.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State Mammal: White Tailed D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State Reptile: Painted Tur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Michigan: Map and State Flag"/>
          <p:cNvPicPr/>
          <p:nvPr/>
        </p:nvPicPr>
        <p:blipFill>
          <a:blip r:embed="rId1"/>
          <a:srcRect l="0" t="0" r="1548" b="63853"/>
          <a:stretch/>
        </p:blipFill>
        <p:spPr>
          <a:xfrm>
            <a:off x="3048120" y="228600"/>
            <a:ext cx="2514600" cy="12574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Michigan: Map and State Flag"/>
          <p:cNvPicPr/>
          <p:nvPr/>
        </p:nvPicPr>
        <p:blipFill>
          <a:blip r:embed="rId2"/>
          <a:srcRect l="0" t="36163" r="-4601" b="0"/>
          <a:stretch/>
        </p:blipFill>
        <p:spPr>
          <a:xfrm>
            <a:off x="4343400" y="3200400"/>
            <a:ext cx="2133720" cy="1773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752480" y="1981080"/>
            <a:ext cx="53341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’s Guide to U.S Government for kids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Quick Facts: Michigan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3/2/20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bensguide.gpo.gov/3-5/state/michiga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5410080"/>
            <a:ext cx="59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’s Guide to U.S Government for kids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Quick Facts: Michigan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3/2/20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bensguide.gpo.gov/3-5/state/michiga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All images Copyright © 1997 - 2000 WriteLine. All Rights Reserved. governor's mansion"/>
          <p:cNvPicPr/>
          <p:nvPr/>
        </p:nvPicPr>
        <p:blipFill>
          <a:blip r:embed="rId1"/>
          <a:stretch/>
        </p:blipFill>
        <p:spPr>
          <a:xfrm>
            <a:off x="2133720" y="1752480"/>
            <a:ext cx="4114800" cy="27432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523880" y="457200"/>
            <a:ext cx="541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1839 the town of Marshall was so certain of becoming the state capital that it built this Governor’s Mansion for the future state executi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4280" y="5326200"/>
            <a:ext cx="6629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371600" y="5029200"/>
            <a:ext cx="71629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ur America through postcards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arshall, MI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3/10/20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postcardsfrom.com/t1/980608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Copyright © 1998 WriteLine. All Rights Reserved. Apple Blossom"/>
          <p:cNvPicPr/>
          <p:nvPr/>
        </p:nvPicPr>
        <p:blipFill>
          <a:blip r:embed="rId1"/>
          <a:stretch/>
        </p:blipFill>
        <p:spPr>
          <a:xfrm>
            <a:off x="152280" y="0"/>
            <a:ext cx="2562480" cy="2666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Copyright © 1997 WriteLine. All Rights Reserved. Robin bird"/>
          <p:cNvPicPr/>
          <p:nvPr/>
        </p:nvPicPr>
        <p:blipFill>
          <a:blip r:embed="rId2"/>
          <a:stretch/>
        </p:blipFill>
        <p:spPr>
          <a:xfrm>
            <a:off x="5562720" y="4572000"/>
            <a:ext cx="3019320" cy="1828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600200" y="2819520"/>
            <a:ext cx="49528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ur America through postcards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ichigan State stamps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/10/20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postcardsfrom.com/stamp/stamp-mi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380880"/>
            <a:ext cx="5715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tate Flower and Bird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1T16:33:38Z</dcterms:created>
  <dc:creator>install</dc:creator>
  <dc:description/>
  <dc:language>en-US</dc:language>
  <cp:lastModifiedBy>install</cp:lastModifiedBy>
  <dcterms:modified xsi:type="dcterms:W3CDTF">2011-03-16T15:55:26Z</dcterms:modified>
  <cp:revision>11</cp:revision>
  <dc:subject/>
  <dc:title>Slide 1</dc:title>
</cp:coreProperties>
</file>